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833-160D-4407-8F96-377060BD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1F9-7B2D-400D-A950-0D41B0A1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E52-6AE2-44D2-BC21-A796874F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437-BE44-486D-BF54-3867202F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0DC-0616-45AD-8B09-D140CB19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163B-1486-4FAE-B480-402DCDA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A51E-BDA8-47EE-B045-B34DFA4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0911-E04D-458B-8B52-09B09B8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5555-4F32-4D65-8B8A-4F67B778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092-B79F-4E7B-95A4-BD8D1EDA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7E2-CF2D-4ACC-B941-3F792DCC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3BB-8E9D-47EE-8119-E8EF832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242C-8ABA-43DE-AF29-5DA3072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A97-D4DA-4521-873A-5225792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DF7-D31F-44E4-AF05-6449149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FA8-7EF2-43E4-889C-495B93B9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7A19-BAC0-4B8E-BCF1-6304C418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0A4-BAD9-4657-84FA-91305F1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4F9-08C9-4623-982E-8021B5E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41E-9158-4475-9175-F14DEBF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DED-9BD9-49A7-9075-50976FD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7CE-B5CD-4424-9422-21D312F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F5A-C5C6-4307-8FAC-2CEC287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480-7B68-4E27-953A-DB8B5BF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A764-5F84-432A-8810-4AED5EE17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28D-7625-4B4D-9AB7-A94198F4D0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ные обознач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и вставки в чертеж строительного генерального плана знаков и линий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и вставки в чертеж таблицы экспликации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ставки в чертеж  цветографических знаков из ГОСТ Р 12.4.026-2001 и дорожных знак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4321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вставлять в чертеж точечные и линейные условные обозначения, а также формировать и дополнять таблицу экспликации условных обознач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05160" y="1108080"/>
            <a:ext cx="48402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и дополнение таблицы экспликац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49053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создания или дополнения таблицы экспликации формируется набор условных обозначений, на основании которого формируется таблица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58800" y="1479600"/>
            <a:ext cx="380700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59360" y="1649520"/>
            <a:ext cx="3610080" cy="3057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89400" y="390204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словные обозна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3040" y="5153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очечные условные обозначения (знаки) вставляются в чертеж в виде блок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81240" y="1163520"/>
            <a:ext cx="52833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ин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93800" y="5446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здание линейных условных обозначений возможно двумя способами: как набора блоков (Линии УО) или в виде единого объекта (Линии УО как типы линий). В последнем случае рассчитывается длина линии с учетом масштаба, а также возможно автоматическое формирование таблицы экспликации по построенным на чертеже лин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3840" y="11588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920" y="10922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типы ли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58800" y="1641600"/>
            <a:ext cx="3959280" cy="2877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178600" y="1965240"/>
            <a:ext cx="3408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линий условных обознач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279440" y="1368360"/>
            <a:ext cx="6797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наки ГОСТ Р 12.4.026-2001 и дорожные зна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4543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ки ГОСТ Р 12.4.026-2001 и дорожные знаки вставляются в чертеж в виде цветографических растровых изображений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44440" y="1419120"/>
            <a:ext cx="4286160" cy="299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762440" y="1486080"/>
            <a:ext cx="41529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я цветографических знаков на чертеже и в таблице эксплик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139760" y="1447920"/>
            <a:ext cx="73026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9:51:58Z</dcterms:modified>
  <cp:revision>264</cp:revision>
  <dc:subject/>
  <dc:title>Слайд 1</dc:title>
</cp:coreProperties>
</file>